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CBD62D-3232-4752-9D3E-9D18B4622BA3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Въз основа на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адени препоръки на одитиращи орган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измененията в нормативната уредба и установени проблеми от УО на ОПАК в процеса на договаряне и изпълнение са предприети следните 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7.2012 г. 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 Наръчникът за изпълнение на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приложенията към н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06.08.2012 г. УО на ОПАК изготви и изпрати на Европейската комисия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 за втор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по Плана</a:t>
            </a:r>
            <a:r>
              <a:rPr b="0" lang="ru-RU" sz="12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пълнението на ОПАК съгласно указанията на ЕК. На 30.10.2012 г. към ЕК беше изпрат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доклад за трето тримесеч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2012 г. по Плана за изпълнение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На 18.10.2012 г. беше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актуализирано и допълнено Ръководството за разработване и изпълнение на проекти по ОПАК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еше качено на интернет страницата на ОП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Изработен и одобрен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„План за обучение в чужбина на дирекция „Оперативна програма „Административен капацитет” за 2012 г.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и бяха изработени и изпратени в Дирекция „Човешки ресурси и административно обслужване” </a:t>
            </a: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личните планове за обучение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на всички служители на дирек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2 вътрешни обучения на дирекция ОПАК в България на 40 служители на дирекцията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, организирани по проект К10-40-7-6 по следните теми: ИСУН, „Презентационни умения”, „Изменения и допълнения в ЗОП в сила от 26.02.2012 г.”, „Развитие на ефективни презентационни умения”, част ІІ и „Практическо приложение на процедурите, заложени в Наръчника за изпълнение на Оперативна програма „Административен капацитет” (Версия 1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333399"/>
                </a:solidFill>
                <a:latin typeface="Times New Roman"/>
              </a:rPr>
              <a:t>7 обучения на общо 27 служители на дирекцията, в международни обучителни институции</a:t>
            </a:r>
            <a:r>
              <a:rPr b="0" lang="bg-BG" sz="1200" spc="-1" strike="noStrike">
                <a:solidFill>
                  <a:srgbClr val="333399"/>
                </a:solidFill>
                <a:latin typeface="Times New Roman"/>
              </a:rPr>
              <a:t> – „Европейския институт по публична администрация” в гр. Маастрихт, Холандия, в гр. Дубровник, Хърватска и в гр. Барселона, Испания, както и в „Европейската академия за данъци, икономика и право”, в гр.Берлин, Гер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С оглед ускорено договаряне на Програмата по-големият брой процедури от ИГРП за 2012 г. бяха заложени за стартиране през първите три месеца на годината, а именно 3 бр. процедури за м. януари, 1 бр. процедура за м. февруари и 3 бр. процедури за м. март и 2 бр. процедури за м. септември на обща стойност 43 млн. ле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333399"/>
                </a:solidFill>
                <a:latin typeface="Arial"/>
              </a:rPr>
              <a:t>В рамките на отчетния период бяха предприети действия с цел актуализация на ИГРП и включването на нови процедури – понастоящем ИГРП на ОПАК за 2012 г. включва 17 бр. процедури за предоставяне на безвъзмездна финансова помощ в размер на 96,15 млн. лв. От тях 77,15 млн. лв. (12 бр. процедури) са насочени към централната, областната и общинската администрация, а 19 млн. лв. (5 бр. процедури) – за съдебната система. Фокусът се насочва към изпълнение на индикаторите по Приоритетна ос І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7A7-E345-4B8F-ADC7-DC44C11D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155-EC13-440E-B9C6-42027CCF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52E-E88B-4257-A9F4-46E4147F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D87-318D-407F-9ADB-AC1187A6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29C-5411-4B45-9643-2E6C20ED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F1A-1BAC-46E7-A459-2973E7F1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161-D015-4706-AEEA-3D763DB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6A9-173C-4EF7-8969-4D4379C5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511-315D-438A-99D6-6FC4E61A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CD4-C0F5-4852-8988-5BBB929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6CA-559F-4362-9150-BF996F0C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E16-C3B2-41B1-BC91-A1F72269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DE1B-45D3-46AF-A5D7-E10345928E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2D15-DC3A-47F1-AB95-9541B54CC9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hyperlink" Target="mailto:info@opac.government.bg" TargetMode="External"/><Relationship Id="rId4" Type="http://schemas.openxmlformats.org/officeDocument/2006/relationships/hyperlink" Target="http://www.opac.government.bg/" TargetMode="External"/><Relationship Id="rId5" Type="http://schemas.openxmlformats.org/officeDocument/2006/relationships/hyperlink" Target="http://www.minfin.b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strategy.bg/" TargetMode="External"/><Relationship Id="rId4" Type="http://schemas.openxmlformats.org/officeDocument/2006/relationships/hyperlink" Target="http://www.strategy.bg/" TargetMode="External"/><Relationship Id="rId5" Type="http://schemas.openxmlformats.org/officeDocument/2006/relationships/hyperlink" Target="http://www.strategy.bg/" TargetMode="External"/><Relationship Id="rId6" Type="http://schemas.openxmlformats.org/officeDocument/2006/relationships/hyperlink" Target="http://www.strategy.bg/" TargetMode="External"/><Relationship Id="rId7" Type="http://schemas.openxmlformats.org/officeDocument/2006/relationships/hyperlink" Target="http://www.strategy.bg/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07A7-7315-48B4-A318-FF7C4C5C1D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-добра организация и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 е Наръчникът за изпълнение на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ктуализирано е Ръководството за разработване и изпълнение на проекти по ОПА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рганизирани са обучения на одобрените бенефициенти за управление на проек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 база на изготвен План за изпълнението на ОПАК, УО изпраща тримесечни доклади за изпълнението на плана до Европейската Комис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Ускоряване на оценителния процес и процеса на сключване на догово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595680"/>
            <a:ext cx="3635280" cy="272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9640" y="3357720"/>
            <a:ext cx="5724360" cy="26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силване на темповете по верификация и съкращаване на сроковете по верификация по отношение на договорите в изпълнение чрез изготвяне на ежеседмични графици;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собено внимание се обръща на проектите с конкретни бенефициенти ИПА, МТИТС, АМС и НСОРБ, тъй като в тези бенефициенти е съсредоточен значителен финансов ресурс и те изпълняват важни за програмата проект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64E6-4088-4E39-B56D-50B4D4812D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6985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апацитет на Управляващия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18 бр. обучения на общо 61 бр. служители на дирекцията, в международни обучителни институции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 и 2 бр. обучения за 2 бр. служители в български обучителни институ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5 бр. изнесени обучения на дирекция ОПАК в България на 44 бр. служители на дирек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Към края на отчетния период в дирекция ОПАК, са заети 43 бр. от всички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333399"/>
                </a:solidFill>
                <a:latin typeface="Times New Roman"/>
              </a:rPr>
              <a:t>44 щатни брой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DSC04832"/>
          <p:cNvPicPr/>
          <p:nvPr/>
        </p:nvPicPr>
        <p:blipFill>
          <a:blip r:embed="rId2"/>
          <a:srcRect l="4045" t="20936" r="595" b="1745"/>
          <a:stretch/>
        </p:blipFill>
        <p:spPr>
          <a:xfrm>
            <a:off x="1677960" y="3201840"/>
            <a:ext cx="5773680" cy="3127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66BC-D68B-4050-BEAA-A5B3A5539E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0" name="Picture 7" descr="info4"/>
          <p:cNvPicPr/>
          <p:nvPr/>
        </p:nvPicPr>
        <p:blipFill>
          <a:blip r:embed="rId2"/>
          <a:srcRect l="0" t="23625" r="0" b="0"/>
          <a:stretch/>
        </p:blipFill>
        <p:spPr>
          <a:xfrm>
            <a:off x="0" y="3668760"/>
            <a:ext cx="5076720" cy="2208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662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нформация и публичност през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39 бр. информационни дн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разясняване на условията за кандидатстване по новите процедури по ОПАК с участието на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повече от 900 потенциални бенефици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7 бр. обучения на бенефициенти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за правилно управление на проекти с</a:t>
            </a: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 над 400 бр. обучени експерти;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2 бр. допълнителни обучения съвместно с Школата по публични финанси към МФ за ЗОП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333399"/>
                </a:solidFill>
                <a:latin typeface="Times New Roman"/>
              </a:rPr>
              <a:t>Голямо годишно информационно събитие с повече от 120 участници, 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сред които представители на Европейската комисия и над 30 мед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Пресконференция на 24.02.2012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Над 1000 бр. публикувани/излъчени материал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info1"/>
          <p:cNvPicPr/>
          <p:nvPr/>
        </p:nvPicPr>
        <p:blipFill>
          <a:blip r:embed="rId3"/>
          <a:srcRect l="0" t="0" r="17599" b="28348"/>
          <a:stretch/>
        </p:blipFill>
        <p:spPr>
          <a:xfrm>
            <a:off x="0" y="4941720"/>
            <a:ext cx="2114640" cy="1390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fo2"/>
          <p:cNvPicPr/>
          <p:nvPr/>
        </p:nvPicPr>
        <p:blipFill>
          <a:blip r:embed="rId4"/>
          <a:srcRect l="0" t="37188" r="0" b="2238"/>
          <a:stretch/>
        </p:blipFill>
        <p:spPr>
          <a:xfrm>
            <a:off x="5292720" y="3687840"/>
            <a:ext cx="3887640" cy="1757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nfo3"/>
          <p:cNvPicPr/>
          <p:nvPr/>
        </p:nvPicPr>
        <p:blipFill>
          <a:blip r:embed="rId5"/>
          <a:srcRect l="0" t="45361" r="0" b="0"/>
          <a:stretch/>
        </p:blipFill>
        <p:spPr>
          <a:xfrm>
            <a:off x="4213080" y="5030640"/>
            <a:ext cx="3311640" cy="135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565-41DC-4A13-BEAB-7763835DA8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bridge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4920" y="1014480"/>
            <a:ext cx="7129440" cy="53481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0" y="907920"/>
            <a:ext cx="9144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БЛАГОДАРЯ ЗА ВНИМАНИЕТО!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 контакти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Управляващ орган на ОПАК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Министерство на финансите 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Дирекция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офия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ул. </a:t>
            </a:r>
            <a:r>
              <a:rPr b="0" lang="en-AU" sz="2000" spc="-1" strike="noStrike">
                <a:solidFill>
                  <a:srgbClr val="333399"/>
                </a:solidFill>
                <a:latin typeface="Times New Roman"/>
              </a:rPr>
              <a:t>„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Г. С. Раковски”, №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ел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: 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01</a:t>
            </a:r>
            <a:br>
              <a:rPr sz="2000"/>
            </a:b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акс: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+359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2 9859 55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2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nfo@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opac.government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minfin.bg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ED3B-019B-4220-9AA0-26FE54DFA0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15" descr="sucess2"/>
          <p:cNvPicPr/>
          <p:nvPr/>
        </p:nvPicPr>
        <p:blipFill>
          <a:blip r:embed="rId2"/>
          <a:stretch/>
        </p:blipFill>
        <p:spPr>
          <a:xfrm>
            <a:off x="3132000" y="1843200"/>
            <a:ext cx="6012000" cy="4484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395280" y="1125360"/>
            <a:ext cx="6192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ГОДИШЕН ДОКЛАД ЗА НАПРЕДЪКА ПО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ОПЕРАТИВНА ПРОГРАМА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АДМИНИСТРАТИВЕН КАПАЦИТЕТ”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20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12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 Г.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F74-8E2D-4915-A590-18D3A160DE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1116000" y="26028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0"/>
            <a:ext cx="664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Изпълнение на ОПАК по приоритетни оси към края на 2012 г.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50920" y="1293840"/>
          <a:ext cx="8642160" cy="4727520"/>
        </p:xfrm>
        <a:graphic>
          <a:graphicData uri="http://schemas.openxmlformats.org/drawingml/2006/table">
            <a:tbl>
              <a:tblPr/>
              <a:tblGrid>
                <a:gridCol w="2100240"/>
                <a:gridCol w="1517400"/>
                <a:gridCol w="1725840"/>
                <a:gridCol w="898560"/>
                <a:gridCol w="1500120"/>
                <a:gridCol w="900000"/>
              </a:tblGrid>
              <a:tr h="709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 план/лв.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овор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платени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- 201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ност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 862 253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 756 491,91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9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820 698,7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 973 015,8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 841 933,38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547 136,2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ІІ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 613 743,27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 673 297,75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946 705,6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а ос ІV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43 707,8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60 540,39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0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35 342,56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4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О: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 592 720,04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 732 263,43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6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 749 883,22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%</a:t>
                      </a:r>
                      <a:endParaRPr b="1" lang="en-US" sz="1600" spc="-1" strike="noStrike">
                        <a:solidFill>
                          <a:srgbClr val="33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D148-3CC3-4B16-BC8A-DBE89E7ACB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6" name="Picture 25" descr="clock-euro1"/>
          <p:cNvPicPr/>
          <p:nvPr/>
        </p:nvPicPr>
        <p:blipFill>
          <a:blip r:embed="rId2"/>
          <a:stretch/>
        </p:blipFill>
        <p:spPr>
          <a:xfrm>
            <a:off x="5003640" y="3500280"/>
            <a:ext cx="4105440" cy="285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2643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ГРП 2012 г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1052640"/>
            <a:ext cx="680400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ИГРП 2012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е с най-много на брой процедури (17) в сравнение с всички предишни индикативни работни програми и отстъпва като общ бюджет (96.150 млн. лв.) единствено на ИГРП 2008 (116 млн. лв.)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От 17 обявени процедури от ИГРП 2012,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 са с решения на оценителните комисии и договорирани в рамките на 2012 г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., а две са със срок за кандидатстване през 2013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442800" indent="-22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Повече получени и оценени проектни предложения през 2012 г.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- в ИГРП 2011, 11 от 15 процедури бяха на директно предоставяне, докато през 2012 г. процедурите на директно предоставяне са само 9 от общо 17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E5DA-F1B0-48B0-961F-EEE78FD42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6" descr="blocks"/>
          <p:cNvPicPr/>
          <p:nvPr/>
        </p:nvPicPr>
        <p:blipFill>
          <a:blip r:embed="rId2"/>
          <a:stretch/>
        </p:blipFill>
        <p:spPr>
          <a:xfrm>
            <a:off x="0" y="2349360"/>
            <a:ext cx="3162240" cy="3984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411280" y="1054080"/>
            <a:ext cx="673272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начително се увеличава и броят на проектите в изпълнение: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в края на 2011 г. проектите в изпълнение са били 90, а в края на 2012 г. те са двойно повече – 17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броя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маляват изпълнените неприключили проекти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от 113 броя в края на 2011 г. до 37 броя в края на 2012 г., като голяма част от тях са с регистрирани нередности или се изчаква становище на компетентни органи извън УО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овишаване на верификацията на разходите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през 2012 г. са верифицирани  388 броя междинни и окончателни искания за плащане (2 пъти повече от верифицираните през 2011 г.), а верифицираните разходи са близо 12 пъти над верифицираните разходи за 2011 г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Ръст на сертифицираните разход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29 млн. лв., което е близо 3 пъти над сертифицираните разходи за 2011 г.</a:t>
            </a:r>
            <a:r>
              <a:rPr b="1" lang="bg-BG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89000"/>
            <a:ext cx="648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Изпълнение на ОПАК 2012</a:t>
            </a:r>
            <a:endParaRPr b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3708360" cy="2841480"/>
          </a:xfrm>
          <a:prstGeom prst="rect">
            <a:avLst/>
          </a:prstGeom>
          <a:ln w="0">
            <a:noFill/>
          </a:ln>
        </p:spPr>
      </p:pic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2B0F-274A-4390-99C2-434BBEAA5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360" y="981000"/>
            <a:ext cx="565164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Функционални анализи и реформи в НОИ и НЗОК, в следствие на които от 2012 г. служителите в двете ведомства станаха държавни служители. 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Затвърждаване на практиката за провеждане на обществени консултации по проекти на нормативни актове чрез промяна в Устройствения правилник на Министерския съвет и неговата администрация и все по-широката популярност на портала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trategy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bg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разработен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отношение на съдебната система, още седем съдилища (две от тях, създадени през 2012 г.) преминават към системата за случайно разпределяне на делата „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w choice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”, разработена по проект на Висшия съдебен съвет по ОПАК.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47640" y="18900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зултати по ПО1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17B0-943D-49AD-B1A2-B6D65E94A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337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Най-успешни, най-мащабни и най-иновативни са проектите на Администрацията на Министерския съвет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студентски стажове в държавната администрац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 мобилността на държавните служители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ез 2012 г. има реално обучени служители от администрацията, за разлика от 2010 и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роцентът обучени служители от местната администрация нараства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По проекта на Върховния апелативен съд са обучени над 87% от магистратите и съдебните служители обучени по ОПАК през 2012 г.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key"/>
          <p:cNvPicPr/>
          <p:nvPr/>
        </p:nvPicPr>
        <p:blipFill>
          <a:blip r:embed="rId2"/>
          <a:stretch/>
        </p:blipFill>
        <p:spPr>
          <a:xfrm>
            <a:off x="0" y="155736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virtual-intern"/>
          <p:cNvPicPr/>
          <p:nvPr/>
        </p:nvPicPr>
        <p:blipFill>
          <a:blip r:embed="rId3"/>
          <a:stretch/>
        </p:blipFill>
        <p:spPr>
          <a:xfrm>
            <a:off x="0" y="4667400"/>
            <a:ext cx="2627280" cy="1641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E98-BB52-44FE-B277-5DC048956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680"/>
            <a:ext cx="43196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езултати по ПО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3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Преизпълнението на индикаторите за електронни услуги продължава да се увелича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- удължаване на срока за изпълнение на проектите на МТИТС поради тяхната мащабност, комплексност и специализирана тематика, като се очаква те да приключат през 2013 год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Слабо е изпълнението на индикаторите за съдебната власт.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Базисна функционалност на портала за е-правосъдие ще може да бъде отчетена най-рано в доклада за 2013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При проектите на Министерство на правосъдието се отчита значително закъснение на етап подготовка и провеждане на обществени поръчки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1413000"/>
            <a:ext cx="2916360" cy="1939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424560" y="3699000"/>
            <a:ext cx="2684520" cy="2278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watch"/>
          <p:cNvPicPr/>
          <p:nvPr/>
        </p:nvPicPr>
        <p:blipFill>
          <a:blip r:embed="rId2"/>
          <a:stretch/>
        </p:blipFill>
        <p:spPr>
          <a:xfrm>
            <a:off x="2987640" y="4289400"/>
            <a:ext cx="2952720" cy="2025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дентифицирани затруднен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реализацията на ОП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къснения при изпълнението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Трудности при прилагането на Методиката за определяне, изплащане и възстановяване на разходите за възнаграждения на служителите в администрацията, приета с ПМС № 330 от 05.12.2011 г.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Налагане на финансови кор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Липса на достатъчно искания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за възстановяване на средства от страна на бенефициентите. Причина за липсата на искания за средства е констатираното </a:t>
            </a: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забавяне в процеса на договаряне през 2010 г.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imes New Roman"/>
              </a:rPr>
              <a:t>Слабости в представяните от бенефициентите искания за възстановяване на средства</a:t>
            </a:r>
            <a:r>
              <a:rPr b="0" lang="bg-BG" sz="2000" spc="-1" strike="noStrike">
                <a:solidFill>
                  <a:srgbClr val="333399"/>
                </a:solidFill>
                <a:latin typeface="Times New Roman"/>
              </a:rPr>
              <a:t>, които водят до продължителна кореспонденция с бенефициентите за предоставяне на допълнителни документи или до налагане на финансови корекции.</a:t>
            </a:r>
            <a:r>
              <a:rPr b="0" lang="bg-BG" sz="19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7:33:42Z</dcterms:created>
  <dc:creator>georgi</dc:creator>
  <dc:description/>
  <dc:language>en-US</dc:language>
  <cp:lastModifiedBy>MHristova</cp:lastModifiedBy>
  <dcterms:modified xsi:type="dcterms:W3CDTF">2013-05-09T10:05:22Z</dcterms:modified>
  <cp:revision>628</cp:revision>
  <dc:subject/>
  <dc:title>Slide 1</dc:title>
</cp:coreProperties>
</file>